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7E2-2DC3-436C-9F95-838ECDF3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4C5-3922-421B-BFF0-D02714B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846-06ED-48C7-AAEB-8EC7CF0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FA8-9009-464D-95CA-BE4DB644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57D-656A-4E8D-BD12-A3D5A25A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9DA-AE2B-4387-8D61-C68FFD0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118-640B-4840-8C94-CB15FFD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BED-67C3-4B57-BF99-03938EF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457-9485-4F71-9D15-82481EF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1D1-41F4-4132-B442-94AE2C1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2D4-8287-4BC4-8D7B-7671F4E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916-10E5-46D2-8D01-A5347F8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4E4-699F-41C3-A763-054515052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mailto:jason@dafc.ne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920"/>
            <a:ext cx="2209680" cy="100872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ue:                Lauder BLCC       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cto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ip0002" descr=""/>
          <p:cNvPicPr/>
          <p:nvPr/>
        </p:nvPicPr>
        <p:blipFill>
          <a:blip r:embed="rId1"/>
          <a:stretch/>
        </p:blipFill>
        <p:spPr>
          <a:xfrm>
            <a:off x="2514600" y="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3400" y="304920"/>
            <a:ext cx="2133720" cy="100872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Midday        till 5.00pm     Tickets £25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lying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6483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371600"/>
            <a:ext cx="624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ig Jim is winging his way to the Centenary Club Sportsman’s Brunch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 rot="5062200">
            <a:off x="-946800" y="3689640"/>
            <a:ext cx="2971800" cy="4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BIG ev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6066600">
            <a:off x="4785480" y="3672360"/>
            <a:ext cx="2898720" cy="58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ok tod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86400"/>
            <a:ext cx="68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im Leishman is your host for the day                                   Full cooked traditional &amp; continental brunch menu                       Speakers to entertain you throughout the afternoon         Glass of champagne/bottle of beer on arrival                 Auction of unique sporting memorabilia, including some fantastic donations from famous clubs both north and south of the border                                                                            Member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SUPER DRAW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including a whopping £2005 prize                  A prize raffle with a difference                                   Presentations for 20 years memberships                                                                                                 Plus a nostalgic look back over the past 2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448920"/>
            <a:ext cx="6400800" cy="36828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enary Club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niversary 1985 -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839080"/>
            <a:ext cx="6400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book, contact </a:t>
            </a:r>
            <a:r>
              <a:rPr b="0" lang="en-US" sz="17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jason@dafc.net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 or pick up tickets from the club shop &amp; the ticket office or a booking form from main reception at East 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6:10:03Z</dcterms:created>
  <dc:creator> Ken Penman</dc:creator>
  <dc:description/>
  <dc:language>en-US</dc:language>
  <cp:lastModifiedBy> Ken Penman</cp:lastModifiedBy>
  <dcterms:modified xsi:type="dcterms:W3CDTF">2005-07-10T22:55:48Z</dcterms:modified>
  <cp:revision>23</cp:revision>
  <dc:subject/>
  <dc:title>PowerPoint Presentation</dc:title>
</cp:coreProperties>
</file>