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86575" cy="9677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5910-8D8E-4A59-B2BD-617094862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79D9-FEDD-4B85-BBF4-5AA49507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142C-03F6-4008-B517-F0FC787E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B69-7D3D-4A0E-B220-883382DC8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311D-7244-4D0C-A34F-B5189C119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B54B-987F-486F-97B9-F1F35C26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ED30-6FEA-47D0-A5F4-AC3F0743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9E43-9BE5-438F-B6A0-025BA9FF2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10F0-B1A4-405D-B984-4D7CBDF4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C107-1B12-4E04-AE2D-EDF06693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9B35-2945-47BE-A5A4-85A2D403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D7E4-6B35-429E-AAF7-17DC8077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B12D-174A-4F77-AF79-A23B463442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hyperlink" Target="mailto:jason@dafc.net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04920" y="304920"/>
            <a:ext cx="2209680" cy="1008720"/>
          </a:xfrm>
          <a:prstGeom prst="rect">
            <a:avLst/>
          </a:prstGeom>
          <a:solidFill>
            <a:srgbClr val="fce6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enue:                Lauder BLCC        9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October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clip0002" descr=""/>
          <p:cNvPicPr/>
          <p:nvPr/>
        </p:nvPicPr>
        <p:blipFill>
          <a:blip r:embed="rId1"/>
          <a:stretch/>
        </p:blipFill>
        <p:spPr>
          <a:xfrm>
            <a:off x="2514600" y="0"/>
            <a:ext cx="1752480" cy="1568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343400" y="304920"/>
            <a:ext cx="2133720" cy="1008720"/>
          </a:xfrm>
          <a:prstGeom prst="rect">
            <a:avLst/>
          </a:prstGeom>
          <a:solidFill>
            <a:srgbClr val="fce6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2 Midday        till 5.00pm     Tickets £25 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Flying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4648320" cy="3353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04920" y="1371600"/>
            <a:ext cx="6248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Big Jim is winging his way to the Centenary Club Sportsman’s Brunch’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 rot="5062200">
            <a:off x="-946800" y="3689640"/>
            <a:ext cx="2971800" cy="468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The BIG even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9" name=""/>
          <p:cNvSpPr txBox="1"/>
          <p:nvPr/>
        </p:nvSpPr>
        <p:spPr>
          <a:xfrm rot="6066600">
            <a:off x="4785480" y="3672360"/>
            <a:ext cx="2898720" cy="5824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Book toda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0" name=""/>
          <p:cNvSpPr/>
          <p:nvPr/>
        </p:nvSpPr>
        <p:spPr>
          <a:xfrm>
            <a:off x="0" y="5486400"/>
            <a:ext cx="68580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Jim Leishman is your host for the day                                   Full cooked traditional &amp; continental brunch menu                       Speakers to entertain you throughout the afternoon         Glass of champagne/bottle of beer on arrival                 Auction of unique sporting memorabilia, including some fantastic donations from famous clubs both north and south of the border                                                                            Members </a:t>
            </a:r>
            <a:r>
              <a:rPr b="1" i="1" lang="en-GB" sz="2000" spc="-1" strike="noStrike">
                <a:solidFill>
                  <a:srgbClr val="000000"/>
                </a:solidFill>
                <a:latin typeface="Times New Roman"/>
              </a:rPr>
              <a:t>SUPER DRAW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 including a whopping £2005 prize                  A prize raffle with a difference                                   Presentations for 20 years memberships                                                                                                 Plus a nostalgic look back over the past 20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9448920"/>
            <a:ext cx="6400800" cy="368280"/>
          </a:xfrm>
          <a:prstGeom prst="rect">
            <a:avLst/>
          </a:prstGeom>
          <a:solidFill>
            <a:srgbClr val="fce6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entenary Club 2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Anniversary 1985 - 20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8839080"/>
            <a:ext cx="64008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imes New Roman"/>
              </a:rPr>
              <a:t>To book, contact </a:t>
            </a:r>
            <a:r>
              <a:rPr b="0" lang="en-US" sz="1700" spc="-1" strike="noStrike" u="sng">
                <a:solidFill>
                  <a:srgbClr val="000099"/>
                </a:solidFill>
                <a:uFillTx/>
                <a:latin typeface="Times New Roman"/>
                <a:hlinkClick r:id="rId3"/>
              </a:rPr>
              <a:t>jason@dafc.net</a:t>
            </a:r>
            <a:r>
              <a:rPr b="0" i="1" lang="en-US" sz="1700" spc="-1" strike="noStrike">
                <a:solidFill>
                  <a:srgbClr val="000000"/>
                </a:solidFill>
                <a:latin typeface="Times New Roman"/>
              </a:rPr>
              <a:t> or pick up tickets from the club shop &amp; the ticket office or a booking form from main reception at East End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6:10:03Z</dcterms:created>
  <dc:creator> Ken Penman</dc:creator>
  <dc:description/>
  <dc:language>en-US</dc:language>
  <cp:lastModifiedBy> Ken Penman</cp:lastModifiedBy>
  <dcterms:modified xsi:type="dcterms:W3CDTF">2005-07-10T22:55:48Z</dcterms:modified>
  <cp:revision>23</cp:revision>
  <dc:subject/>
  <dc:title>PowerPoint Presentation</dc:title>
</cp:coreProperties>
</file>